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D34-0EA6-48DF-847A-CAD83E33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713-B563-4CC0-A8BF-F72798C9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20A-7D4F-4BBA-A699-F156C996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5E9-9678-4760-96B1-7DAE50A7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4FA-74DB-4744-9B2C-E43B6498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CEA-F048-4291-BB41-45ED1DBC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215-57E1-4AD9-B6D3-A14436CE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A87-9B75-4699-8288-DDA53D70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CFC-84D8-4708-93D6-CAD0A86F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B6B-A1A8-4107-8A94-7E778D0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056-3982-41D6-BB94-B2246F46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034-B29C-408C-AF98-AE0CB599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0EC4-3B24-4A1E-A224-819F41CF793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Masterclas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e marketing van biologische productie en retai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Verwoorden &amp; Verwaarden 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98989"/>
                </a:solidFill>
                <a:latin typeface="Calibri"/>
              </a:rPr>
              <a:t>Balancerend Marketing bel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iologisch produceren is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erken aan meerwaar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-stream tot down-stream in de k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maginatieproces, doordenken, doorvoelen doorwi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municatie is gericht op doorgronden van proce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mancipatie van de cons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alancerend Marketingbeleid vraag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flectie op bestaande situ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sie op wat je bewe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en wat je te ontwikkelen h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antwoordelijk willen zijn voor persoonlijke ontwikk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oriteiten stellen op basis van vis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chtbaar zijn in communica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oorden en ve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als resulta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De consumenten premi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in de prij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2819520" y="1447920"/>
            <a:ext cx="0" cy="3733560"/>
          </a:xfrm>
          <a:prstGeom prst="line">
            <a:avLst/>
          </a:prstGeom>
          <a:ln w="5076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4343400" y="3275280"/>
            <a:ext cx="3733920" cy="2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09480" y="2209680"/>
            <a:ext cx="19227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wat je te doen staat, met je ideaal of vi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Openhar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Prior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A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800600" y="3657600"/>
            <a:ext cx="223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je omgeving, de 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Aand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Inte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2590920" y="2590920"/>
            <a:ext cx="2133360" cy="1447560"/>
          </a:xfrm>
          <a:prstGeom prst="ellipse">
            <a:avLst/>
          </a:prstGeom>
          <a:noFill/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71640" y="3048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alancerend Marketingbe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 rot="5400000">
            <a:off x="1676520" y="2054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0504d"/>
                </a:solidFill>
                <a:latin typeface="Calibri"/>
              </a:rPr>
              <a:t>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87692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ed181e"/>
                </a:solidFill>
                <a:latin typeface="Calibri"/>
              </a:rPr>
              <a:t>Ver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3657600" y="885240"/>
            <a:ext cx="2524320" cy="2090160"/>
          </a:xfrm>
          <a:prstGeom prst="line">
            <a:avLst/>
          </a:prstGeom>
          <a:ln w="5076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477120" y="762120"/>
            <a:ext cx="1981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876e7"/>
                </a:solidFill>
                <a:latin typeface="Calibri"/>
              </a:rPr>
              <a:t>Bewust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zorgt voor ba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1:10:56Z</dcterms:created>
  <dc:creator>Ruijte01</dc:creator>
  <dc:description/>
  <dc:language>en-US</dc:language>
  <cp:lastModifiedBy>schuri01</cp:lastModifiedBy>
  <dcterms:modified xsi:type="dcterms:W3CDTF">2011-07-11T11:13:31Z</dcterms:modified>
  <cp:revision>5</cp:revision>
  <dc:subject/>
  <dc:title>Masterclass Verwoorden &amp; Verwaarden</dc:title>
</cp:coreProperties>
</file>